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CA99F-9108-45A3-99FE-B8691190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2A216-9C37-45E3-9B1F-4B9335D8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2BE50-F09B-4885-A3A6-2D3D5A71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4917B-E304-4FD0-8B0F-F507C83A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205D-7905-44A1-B81E-05ADCFE1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0CEB-34BD-4ADA-A94B-B4004063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51A2-2B28-410E-A116-D31E6D27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B5E4-45CD-4052-AE1C-4813B407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EA7F-6B18-4F9C-9142-B0904E7A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A8D9-174C-4DD3-BC98-A4884BBF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D864-F059-4C2F-A613-4AE60784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6E8C0-B512-4200-BB4E-9407656D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1CB7-B52A-4693-9C34-1A0A49A8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54A4-69EC-43A5-80C5-6796C661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92FA-D0D2-474A-8329-CFD9C064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53AB-276C-485A-A4B5-D61E317E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2B86-A311-4308-AE0F-574A15DD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3ED9F-CC20-4C39-A548-BF0610B7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E60FF-5A98-4B90-BE4C-0D04EA4E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2AEC4-7147-45DC-BE87-9697BAB7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5A60C-37CC-49F0-BEC9-9AE98866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BE476-6CA3-4A14-8137-63B518E2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B95FA-8FB1-49F9-85FD-74BF6E5A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9F585-EA18-4B9C-A69D-7394F302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36E3-62C3-449F-9407-F2D6936ADD6F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C5AF-BE38-4B2E-9077-E0067A0F9858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1828800"/>
            <a:ext cx="7444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600" spc="-1" strike="noStrike">
                <a:solidFill>
                  <a:srgbClr val="000000"/>
                </a:solidFill>
                <a:latin typeface="Arial"/>
              </a:rPr>
              <a:t>Reģionālās attīstības </a:t>
            </a:r>
            <a:br>
              <a:rPr sz="4600"/>
            </a:br>
            <a:r>
              <a:rPr b="1" lang="lv-LV" sz="4600" spc="-1" strike="noStrike">
                <a:solidFill>
                  <a:srgbClr val="000000"/>
                </a:solidFill>
                <a:latin typeface="Arial"/>
              </a:rPr>
              <a:t>tīspusējās sadarbības apakšpadome (RATSA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Ziņo: Valda Smirnov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RAPL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TSA uzdevu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drošināt un veicināt valsts, pašvaldību, darba devēju organizāciju un to apvienību un darbinieku arodbiedrību sadarbību un līdzdalību reģionālās attīstības nodrošināšan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SA 2007.gada darbī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kušas 3 sē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tītie jautāju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Valsts ilgtspējīgas attīstības stratēģijas izstrā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LM darbības stratēģ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pilnvērtīgu novadu pašvaldību izveidošanu un esošo reģionālo struktūru funkciju pārņemša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pašvaldību informatizāciju un interneta pieejamīb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rajonu reorganizāci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reģionu attīstību Latvijā 2006.gad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blēmas RATSA darb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0280" y="2004480"/>
            <a:ext cx="7931160" cy="33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alībpuses problēmas neidentificēja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(RATSA 25.02.2008. sē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8.gada sēžu graf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21.aprīl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acionālā attīstības plāna ieviešanas galvenie darbības virzieni 2008.gad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Vadlīniju projekts valsts, reģionālā un vietējā līmeņa pārvaldes institūcijām plānošanas sistēmas efektīvas darbības nodrošināš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lv-LV" sz="1800" spc="-1" strike="noStrike">
                <a:solidFill>
                  <a:srgbClr val="000000"/>
                </a:solidFill>
                <a:latin typeface="Arial"/>
              </a:rPr>
              <a:t>(OECD LEED un RAPLM izstrādātas)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6.jūnij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ar pašvaldību finanšu izlīdzināšanas modeli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5.septem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Informācija par administratīvi teritoriālās reformas gaitu un paveikto 2008.gadā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20.okto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lsētu politikas pamatnostādņu izstrādes gaita (Pilsētu politikas pamatnostādņu 1.redakcijas izskatīšana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8.decem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Valsts pārvaldes dekoncentrācija un reģionālā pārvaldes līmeņa attīstī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eģionālās politikas pamatnostādņu vidusposma izvērtējuma izskatīšana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437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utājums, kuru būtu jāvirza izskatīšanai uz NTSP sēd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nformācija par administratīvi teritoriālās reformas gaitu 2008.gad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lānotais laiks 2008.gada II pusg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erosinātājs Līvija Marcinkēviča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2000" spc="-1" strike="noStrike">
                <a:solidFill>
                  <a:srgbClr val="000000"/>
                </a:solidFill>
                <a:latin typeface="Arial"/>
              </a:rPr>
              <a:t>LBAS priekšsēdētāja vietniece, RATSA vadītājs no LBAS p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ldies par uzmanību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07:27:34Z</dcterms:created>
  <dc:creator>user</dc:creator>
  <dc:description/>
  <dc:language>en-US</dc:language>
  <cp:lastModifiedBy>Sanita Diediske</cp:lastModifiedBy>
  <cp:lastPrinted>2006-08-14T10:58:26Z</cp:lastPrinted>
  <dcterms:modified xsi:type="dcterms:W3CDTF">2008-05-09T08:35:15Z</dcterms:modified>
  <cp:revision>30</cp:revision>
  <dc:subject/>
  <dc:title>Mērķis</dc:title>
</cp:coreProperties>
</file>